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A77-7F5F-4163-9DB6-754B4160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919-B261-4F73-90E3-A7C73142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486-9F02-4CBA-8DB1-D4788256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E79-7922-4974-94B9-27C11ABA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581-6088-47CF-85A5-451E2DD2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DD2-9A3B-4AAC-B5B3-A98861AA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0D3-CA46-4DD7-8DA9-8176B991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7CB-6FB4-4C0F-BE76-25A1B4EA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8BF-EE36-49F2-BB5B-635104DD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2CA-1A0E-4E12-86DD-2D168F6B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861-CA4E-4AB3-86AF-2CE609A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A4B-D33D-4EDE-9DE8-ECA0160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165D-069B-48F0-B351-952E6854D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7280" y="1447920"/>
            <a:ext cx="547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election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t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y Desig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762120"/>
            <a:ext cx="2514600" cy="444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276720"/>
            <a:ext cx="41911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4952880"/>
            <a:ext cx="716292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716292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43000" y="2666880"/>
            <a:ext cx="71629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029200"/>
            <a:ext cx="8380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077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543800" cy="181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0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5438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543800" cy="695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467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20400" y="19051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Epi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2924280"/>
            <a:ext cx="76201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7543800" cy="94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543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1905120" cy="990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06600" y="1512720"/>
            <a:ext cx="21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 issu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5638680"/>
            <a:ext cx="2438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761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7:39Z</dcterms:modified>
  <cp:revision>213</cp:revision>
  <dc:subject/>
  <dc:title>Slide 1</dc:title>
</cp:coreProperties>
</file>